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7D9-DA55-4397-B3F4-137777E4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AF9-8684-4058-8106-BB95848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7FC-4B5E-422B-92F0-38C65D55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D41-CF34-4046-9967-86F4D184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8A6-19C2-4E8A-BAB4-102D3258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685-B9E2-43B9-835F-4F7564F9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93E-836B-4278-A466-0EE9D042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8EE-2F3C-4B4C-B9EA-2CE88F72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917-63D0-456A-897F-0E45F04F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054-9EE8-4586-9A3E-36708C0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8B8-ECBD-4D54-AC1A-C142650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089-5DF7-4E6C-9710-0877ED48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0780-0695-4E25-86FD-60EC8C767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Нот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ду третьей и втор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ы окошечко откр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-ля-ля, тра-ля-л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есь живёт нота «Л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Ля.jpg"/>
          <p:cNvPicPr/>
          <p:nvPr/>
        </p:nvPicPr>
        <p:blipFill>
          <a:blip r:embed="rId1"/>
          <a:stretch/>
        </p:blipFill>
        <p:spPr>
          <a:xfrm>
            <a:off x="2556000" y="2781360"/>
            <a:ext cx="46926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та «Си» попола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елила нотный стан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линейке номер тр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лилась нота «М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5" descr="Ля, си.jpg"/>
          <p:cNvPicPr/>
          <p:nvPr/>
        </p:nvPicPr>
        <p:blipFill>
          <a:blip r:embed="rId1"/>
          <a:stretch/>
        </p:blipFill>
        <p:spPr>
          <a:xfrm>
            <a:off x="1619280" y="2708280"/>
            <a:ext cx="6453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 н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До, ре, ми, фа, соль, ля, си - цвет.jpg"/>
          <p:cNvPicPr/>
          <p:nvPr/>
        </p:nvPicPr>
        <p:blipFill>
          <a:blip r:embed="rId1"/>
          <a:stretch/>
        </p:blipFill>
        <p:spPr>
          <a:xfrm>
            <a:off x="611280" y="2349360"/>
            <a:ext cx="81979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 нота есть в гуляк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в каляке, и в маляк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землянике на полянк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ще в стеклянной скля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ты играют в пря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ягуш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ки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добавочной линейк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о» сидит, как на скамей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8" descr="До - копия.jpg"/>
          <p:cNvPicPr/>
          <p:nvPr/>
        </p:nvPicPr>
        <p:blipFill>
          <a:blip r:embed="rId1"/>
          <a:stretch/>
        </p:blipFill>
        <p:spPr>
          <a:xfrm>
            <a:off x="826920" y="1557360"/>
            <a:ext cx="781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же всех под нотоносце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лилась нота «Ре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ычит на всех сердит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то Рексик в кон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До, ре.jpg"/>
          <p:cNvPicPr/>
          <p:nvPr/>
        </p:nvPicPr>
        <p:blipFill>
          <a:blip r:embed="rId1"/>
          <a:stretch/>
        </p:blipFill>
        <p:spPr>
          <a:xfrm>
            <a:off x="900000" y="2205000"/>
            <a:ext cx="7891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линейке перв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та «Ми» живё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ло улыбается. Песенки по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4" descr="До, ре, ми - копия.jpg"/>
          <p:cNvPicPr/>
          <p:nvPr/>
        </p:nvPicPr>
        <p:blipFill>
          <a:blip r:embed="rId1"/>
          <a:stretch/>
        </p:blipFill>
        <p:spPr>
          <a:xfrm>
            <a:off x="900000" y="2421000"/>
            <a:ext cx="77612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ты До, Ре, 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До, ре, ми - цветн. - копия.jpg"/>
          <p:cNvPicPr/>
          <p:nvPr/>
        </p:nvPicPr>
        <p:blipFill>
          <a:blip r:embed="rId1"/>
          <a:stretch/>
        </p:blipFill>
        <p:spPr>
          <a:xfrm>
            <a:off x="900000" y="2048040"/>
            <a:ext cx="7704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рес ноты «Фа» простой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ду первой и втор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Фа» стоит между линее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посту как часов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Фа.jpg"/>
          <p:cNvPicPr/>
          <p:nvPr/>
        </p:nvPicPr>
        <p:blipFill>
          <a:blip r:embed="rId1"/>
          <a:stretch/>
        </p:blipFill>
        <p:spPr>
          <a:xfrm>
            <a:off x="2411280" y="2852640"/>
            <a:ext cx="558036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та «соль» сказала деловито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реди нот я очень знаменита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второй линейке я сижу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 скрипичным ключиком друж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Соль.jpg"/>
          <p:cNvPicPr/>
          <p:nvPr/>
        </p:nvPicPr>
        <p:blipFill>
          <a:blip r:embed="rId1"/>
          <a:stretch/>
        </p:blipFill>
        <p:spPr>
          <a:xfrm>
            <a:off x="2484360" y="2741760"/>
            <a:ext cx="48164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 – соль, фа – соль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и выросла фасо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Фа, соль.jpg"/>
          <p:cNvPicPr/>
          <p:nvPr/>
        </p:nvPicPr>
        <p:blipFill>
          <a:blip r:embed="rId1"/>
          <a:stretch/>
        </p:blipFill>
        <p:spPr>
          <a:xfrm>
            <a:off x="1187280" y="1844640"/>
            <a:ext cx="70567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 н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5" descr="До, ре, ми, фа, соль - цвет.jpg"/>
          <p:cNvPicPr/>
          <p:nvPr/>
        </p:nvPicPr>
        <p:blipFill>
          <a:blip r:embed="rId1"/>
          <a:stretch/>
        </p:blipFill>
        <p:spPr>
          <a:xfrm>
            <a:off x="457200" y="2525760"/>
            <a:ext cx="82296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7:47:17Z</dcterms:created>
  <dc:creator>Admin</dc:creator>
  <dc:description/>
  <dc:language>en-US</dc:language>
  <cp:lastModifiedBy>Анна</cp:lastModifiedBy>
  <dcterms:modified xsi:type="dcterms:W3CDTF">2013-06-02T19:04:34Z</dcterms:modified>
  <cp:revision>25</cp:revision>
  <dc:subject/>
  <dc:title>Слайд 1</dc:title>
</cp:coreProperties>
</file>